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1BBFD-BBF9-46B0-9B19-09BC7799E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footage.shutterstock.com/clip-2456567-stock-footage-spring-green-plants-in-the-foreground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aileybio.com/plogger/?level=picture&amp;id=6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featurepics.com/online/Green-Plants-Background-1387747.asp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hisglory.com/photos2/Green%20Leave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bc.co.uk/bitesize/standard/biology/world_of_plants/making_food/revision/3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allpaperswide.com/bamboo_stems-wallpaper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cience.howstuffworks.com/dictionary/plant-terms/stem-info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iology.unm.edu/ccouncil/Biology_203/Summaries/FloweringPlant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hecatedemeter.wordpress.com/2011/10/15/grounding-in-autumn-what-a-witch-does/root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mhhe.com/biosci/esp/2001_gbio/folder_structure/pl/m2/s4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from: http://answers.tutorvista.com/1087391/what-is-the-difference-of-endodermis-of-monocot-root-and-dicot-roo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eb.dbs.umt.edu/dbs/courses/sci226/lab4_plantsanimal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2.yk.psu.edu/~sg3/ist311/games/team3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glogster.com/brandonl13/the-plant-body/g-6lllm92mrphbrfs5t045pa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wc2012.wikispaces.com/nonvascular+seedless+plant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http://biologyintro2life.blogspot.ca/2010/08/multicellular-organization-plants_18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40EA-0FA8-4175-ABA2-63D90F855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3483-9D5B-470E-978D-160336D26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A323-4F85-473F-B289-034FAEFBA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D6E6-5317-475B-9154-00EE450DD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BD56-D120-4ACE-B65A-6A4BB5AB3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822A-B623-44A8-99E2-9F77C24F7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FDE9-2788-4187-A399-2042C74A9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B58B-79CC-4B25-B8D4-131C5D8D1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C81F-7FA2-40B7-8560-29A256B7C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B220-575B-4D34-ACE8-43F3A3AF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1649-3CBF-49EF-AF4A-3BD9ECED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F441-20F3-41CB-845E-D3209CBA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C52D7-C663-4356-B9C6-13BACB5B99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9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533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s: Anatomy, Growt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amp;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istematic Tiss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ly dividing, undifferentiated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ually specialize into different cells, 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419720" y="1677960"/>
            <a:ext cx="4343400" cy="47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lant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ves, stems, ro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y site of photosynthesis in most 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 exchange between interior of plant and external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0" y="2055960"/>
            <a:ext cx="426708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52560" y="609480"/>
            <a:ext cx="72374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 vascular tissue in leaves to vascular tissue in ro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other structures on 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343400" y="2558880"/>
            <a:ext cx="4572000" cy="29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baceous vs. Woo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411280" y="1981080"/>
            <a:ext cx="4319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ocot vs. Eudicot 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04920" y="1932120"/>
            <a:ext cx="8534160" cy="41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chor plant and keep it up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rb water &amp; nutrients from the soil or subst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495680" y="2614680"/>
            <a:ext cx="426744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85800" y="912960"/>
            <a:ext cx="7772400" cy="48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09480" y="2293920"/>
            <a:ext cx="3886200" cy="24987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572000" y="1771560"/>
            <a:ext cx="388620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ll from Diversit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19200" y="1676520"/>
            <a:ext cx="61038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giosp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cots have seeds with 1 cotyle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ots have seeds with 2 cotyled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267080" y="2247840"/>
            <a:ext cx="4572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 T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mal 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scular 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nd 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stematic 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0" y="2682720"/>
            <a:ext cx="41911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rmal Tiss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ermost lay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idermis, peride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ive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419720" y="2419200"/>
            <a:ext cx="441936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scular Tiss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44560" y="1523880"/>
            <a:ext cx="76071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scular Tissue - Xy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ck-walled cells, dead at mat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heids &amp; vessel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 water &amp; sol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191120" y="1974960"/>
            <a:ext cx="472428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scular Tissue - Phlo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-walled living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ve cells, sieve tube elements, companion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 sug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191120" y="1974960"/>
            <a:ext cx="472428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und Tiss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enchyma, collenchyma, sclerenchy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growth &amp; development; store sugars; support &amp; protect plant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1746360"/>
            <a:ext cx="845820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30T13:46:10Z</dcterms:created>
  <dc:creator>rubina khan</dc:creator>
  <dc:description/>
  <dc:language>en-US</dc:language>
  <cp:lastModifiedBy>rubina khan</cp:lastModifiedBy>
  <dcterms:modified xsi:type="dcterms:W3CDTF">2013-05-30T14:54:21Z</dcterms:modified>
  <cp:revision>46</cp:revision>
  <dc:subject/>
  <dc:title>PowerPoint Presentation</dc:title>
</cp:coreProperties>
</file>